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EBFEA-DA14-4577-B0D2-F9E90B38C1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31D22-8A1E-4AF5-8E99-9F9E53E2D0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C6002-EC3B-4E83-BC95-B5A5BC3F7A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676D4-36A4-4206-A20D-9E6A5E45E3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6C7B3-FF65-4E05-8EC5-D0A5CD2CC2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2A3-4821-4547-9C82-8C7552F7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8A8-183E-4E27-97DC-CEDA5C9F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A8A-FC6F-4C49-9863-A3D8E9C2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193-CC06-484B-A90B-85F5DDA0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A86-2C3D-4B6A-870A-E0351D47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FE7-2675-45F1-A2CB-3842A8B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D45-D418-4069-9A98-A2BAAD4D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935-46EC-401A-A1D5-C0AE455C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1D6-3E81-476D-BAB3-F80854B9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E2E-1A92-4720-9719-22661E0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9C4-ED60-4380-8651-124B4382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51E-8BA1-405F-8C22-6F0A6A1E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55F39-5FC1-4DB5-A351-A0885270B7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1554120" y="2182680"/>
            <a:ext cx="6059520" cy="340704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213000"/>
            <a:ext cx="3186000" cy="1150920"/>
            <a:chOff x="3086280" y="3213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213000"/>
              <a:ext cx="2729520" cy="110376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98320"/>
              <a:ext cx="911160" cy="9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53320"/>
              <a:ext cx="3186000" cy="111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419560" y="905040"/>
            <a:ext cx="4822560" cy="1180800"/>
            <a:chOff x="2419560" y="905040"/>
            <a:chExt cx="4822560" cy="1180800"/>
          </a:xfrm>
        </p:grpSpPr>
        <p:sp>
          <p:nvSpPr>
            <p:cNvPr id="65" name="Text Box 2"/>
            <p:cNvSpPr/>
            <p:nvPr/>
          </p:nvSpPr>
          <p:spPr>
            <a:xfrm>
              <a:off x="368136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月光启蒙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419560" y="905040"/>
              <a:ext cx="1183680" cy="1180800"/>
              <a:chOff x="2419560" y="905040"/>
              <a:chExt cx="118368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42244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419560" y="9986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885960" y="1049400"/>
            <a:ext cx="7726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还听过哪些有趣的童谣呢？给大家说一个吧。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（可以一边打节拍一边说）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24" descr="花盆.png"/>
          <p:cNvPicPr/>
          <p:nvPr/>
        </p:nvPicPr>
        <p:blipFill>
          <a:blip r:embed="rId1"/>
          <a:stretch/>
        </p:blipFill>
        <p:spPr>
          <a:xfrm>
            <a:off x="642960" y="1203480"/>
            <a:ext cx="317520" cy="368280"/>
          </a:xfrm>
          <a:prstGeom prst="rect">
            <a:avLst/>
          </a:prstGeom>
          <a:ln w="0">
            <a:noFill/>
          </a:ln>
        </p:spPr>
      </p:pic>
      <p:sp>
        <p:nvSpPr>
          <p:cNvPr id="111" name="矩形 2"/>
          <p:cNvSpPr/>
          <p:nvPr/>
        </p:nvSpPr>
        <p:spPr>
          <a:xfrm>
            <a:off x="1257480" y="2535120"/>
            <a:ext cx="7230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拉大锯，扯大锯，姥姥家，唱大戏；接闺女，请女婿，小外孙子也要去，今搭棚，明挂彩， 羊肉包子往上摆，不吃不吃吃二百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13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童谣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019160" y="3048120"/>
            <a:ext cx="74246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这篇文章原来的题目为“月光母亲”，编入教材后改为“月光启蒙”，意在突出“启蒙”，可以分为两个层次来理解：从表面看是母亲通过唱歌谣、讲故事、唱童谣、说谜语给“我”启蒙；更深层次上可以理解为母亲启发了“我”，让“我”对文学产生了浓厚的兴趣，母亲不仅传递了她 对“我”的爱，同时也把她对故乡的爱，对生活的爱传递给了“我”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961920" y="2530440"/>
            <a:ext cx="7425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为什么要用“月光启蒙”做课文题目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内容占位符 2"/>
          <p:cNvSpPr/>
          <p:nvPr/>
        </p:nvSpPr>
        <p:spPr>
          <a:xfrm>
            <a:off x="851040" y="2454120"/>
            <a:ext cx="76453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在夏夜的月光下，母亲为“我”做了哪些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1146240" y="3552840"/>
            <a:ext cx="69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为“我”唱歌谣、讲故事、唱童谣、说谜语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内容占位符 2"/>
          <p:cNvSpPr/>
          <p:nvPr/>
        </p:nvSpPr>
        <p:spPr>
          <a:xfrm>
            <a:off x="625320" y="117000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做的事对“我”有什么影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039680" y="18525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通过唱歌谣、讲故事、唱童谣、说谜语，把对故乡的爱，对生活的爱，对“我”的爱都传递给了“我”。同时，那些明快、流畅、含蓄、风趣的民歌民谣，唤起了“我”对文学的热爱，启迪了“我”的灵魂，帮助“我”走上了文学创作的道路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0" indent="-982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多次写到“月光”，它在文中起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0" indent="-982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1203480" y="280368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文章以“月光”为线索，紧紧围绕“月光启蒙”这个主题展开，内容严谨而紧凑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0" indent="-982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表达了作者什么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1198440" y="23511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表达了作者对母亲养育、启蒙之恩的感激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1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26"/>
          <p:cNvSpPr/>
          <p:nvPr/>
        </p:nvSpPr>
        <p:spPr>
          <a:xfrm>
            <a:off x="822960" y="2333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月光启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033640" y="22906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唱歌谣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13"/>
          <p:cNvSpPr/>
          <p:nvPr/>
        </p:nvSpPr>
        <p:spPr>
          <a:xfrm>
            <a:off x="1781280" y="2293920"/>
            <a:ext cx="312480" cy="2879640"/>
          </a:xfrm>
          <a:custGeom>
            <a:avLst/>
            <a:gdLst>
              <a:gd name="textAreaLeft" fmla="*/ 199800 w 312480"/>
              <a:gd name="textAreaRight" fmla="*/ 312840 w 3124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左大括号 15"/>
          <p:cNvSpPr/>
          <p:nvPr/>
        </p:nvSpPr>
        <p:spPr>
          <a:xfrm flipH="1">
            <a:off x="6735600" y="2303640"/>
            <a:ext cx="314640" cy="2879640"/>
          </a:xfrm>
          <a:custGeom>
            <a:avLst/>
            <a:gdLst>
              <a:gd name="textAreaLeft" fmla="*/ 201240 w 314640"/>
              <a:gd name="textAreaRight" fmla="*/ 315000 w 31464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6"/>
          <p:cNvSpPr/>
          <p:nvPr/>
        </p:nvSpPr>
        <p:spPr>
          <a:xfrm>
            <a:off x="7038000" y="2612160"/>
            <a:ext cx="11552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赞美母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感谢母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左大括号 19"/>
          <p:cNvSpPr/>
          <p:nvPr/>
        </p:nvSpPr>
        <p:spPr>
          <a:xfrm flipH="1">
            <a:off x="3044160" y="2262240"/>
            <a:ext cx="322200" cy="1800000"/>
          </a:xfrm>
          <a:custGeom>
            <a:avLst/>
            <a:gdLst>
              <a:gd name="textAreaLeft" fmla="*/ 205560 w 322200"/>
              <a:gd name="textAreaRight" fmla="*/ 322200 w 322200"/>
              <a:gd name="textAreaTop" fmla="*/ 8280 h 1800000"/>
              <a:gd name="textAreaBottom" fmla="*/ 179172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2"/>
                </a:cubicBezTo>
                <a:lnTo>
                  <a:pt x="10800" y="10478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2"/>
                </a:cubicBezTo>
                <a:lnTo>
                  <a:pt x="10800" y="21278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470400" y="294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2073240" y="4684680"/>
            <a:ext cx="36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母亲是“我”的启蒙老师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2033640" y="271944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讲故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2033640" y="317340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唱童谣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2033640" y="3606840"/>
            <a:ext cx="12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说谜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656320" y="46864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以“月光”为线索，回忆了小时候母亲在月光下为“我”唱歌谣、讲故事、唱童谣、说谜语等动人的情景，表现了母爱的崇高和伟大，表达了作者对母亲养育、启蒙之恩的感激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3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冬阳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童年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骆驼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骆驼队来了，停在我家的门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它们排列成一长串，沉默地站着，等候人们的安排。天气又干又冷，拉骆驼的摘下了他的毡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zhā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帽，秃瓢儿上冒着热气，是一股白色的烟，融入干冷的大气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爸爸在和他讲价钱。双峰的驼背上，每匹都驮着两麻袋煤。我在想，麻袋里面是“南山高末”呢，还是“乌金墨玉”？我常常看见顺城街煤栈的白墙上，写着这样几个大黑字。但是拉骆驼的说，他们从门头沟来，他们和骆驼，是一步一步走来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095480" y="299736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握本文的线索，理清文章的写作顺序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内容占位符 2"/>
          <p:cNvSpPr/>
          <p:nvPr/>
        </p:nvSpPr>
        <p:spPr>
          <a:xfrm>
            <a:off x="996840" y="1257480"/>
            <a:ext cx="76154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另外一个拉骆驼的，在招呼骆驼们吃草料。它们把前脚一屈，屁股一撅，就跪了下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爸爸已经和他们讲好价钱了。人在卸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xi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煤，骆驼在吃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站在骆驼的面前，看它们吃草料咀嚼的样子，那样丑的脸，那样长的牙，那样安静的态度。它们咀嚼的时候，上牙和下牙交错地摩来磨去，大鼻孔里冒着热气，白沫子沾满在胡须上。我看得呆了，自己的牙齿也动了起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老师教给我，要学骆驼，沉得住气的动物。看它从不着急，慢慢地走，慢慢地嚼，总会走到的，总会吃饱的。也许它天生是该慢慢的，偶然躲避车子跑两步，姿势就很难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内容占位符 2"/>
          <p:cNvSpPr/>
          <p:nvPr/>
        </p:nvSpPr>
        <p:spPr>
          <a:xfrm>
            <a:off x="839880" y="966960"/>
            <a:ext cx="764208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骆驼队伍过来时，你会知道，打头儿的那一匹，长脖子底下总系着一个铃铛，走起来，“铛、铛、铛”地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为什么要系一个铃铛？”我不懂的事就要问一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爸爸告诉我，骆驼很怕狼，因为狼会咬它们，所以人类给它带上铃铛，狼听见铃铛的声音，知道那是有人类在保护着，就不敢侵犯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的幼稚心灵中却充满了和大人不同的想法，我对爸爸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不是的，爸！它们软软的脚掌走在软软的沙漠上，没有一点点声音，你不是说，它们走上三天三夜都不喝一口水，只是不声不响地咀嚼着从胃里反刍出来的食物吗？一定是拉骆驼的人类，耐不住那长途寂寞的旅程，所以才给骆驼带上了铃铛，增加一些行路的情趣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内容占位符 2"/>
          <p:cNvSpPr/>
          <p:nvPr/>
        </p:nvSpPr>
        <p:spPr>
          <a:xfrm>
            <a:off x="839880" y="966960"/>
            <a:ext cx="76420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爸爸想了想，笑笑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也许，你的想法更美些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冬天快过完了，春天就要来了，太阳特别暧和，暖得让人想把棉袄脱下来。可不是么？骆驼也脱掉它的旧驼绒袍子啦！它的毛皮一大块一大块地从身上掉下来，垂在肚皮底下。我真想拿剪刀替它们剪一剪，因为太不整齐了。拉骆驼的人也一样，他们身上那件反穿大羊皮，也都脱下来了，搭在骆驼背的小峰上。麻袋空了，“乌金墨玉”都卖了，铃铛在轻松的步伐里响得更清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夏天来了，再不见骆驼的影子，我又问妈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夏天它们到哪儿去？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谁？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内容占位符 2"/>
          <p:cNvSpPr/>
          <p:nvPr/>
        </p:nvSpPr>
        <p:spPr>
          <a:xfrm>
            <a:off x="839880" y="966960"/>
            <a:ext cx="76420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骆驼呀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妈妈回答不上来了，她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总是问，总是问，你这孩子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夏天过去，秋天过去，冬天又来了，骆驼队又来了，但是童年却一去不还了。冬阳底下学骆驼咀嚼的傻事，我也不会再做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可是，我是多么想念童年住在北京城南的那些景色和人物啊！我对自己说，把它们写下来吧，让实际的童年过去，心灵的童年永存下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就这样，我写了一本《城南旧事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默默地想，慢慢地写。又看见冬阳下的骆驼队走过来，又听见缓慢悦耳的铃声，童年重临于我的心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1042920" y="2374920"/>
            <a:ext cx="7234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慈母手中线，游子身上衣。临行密密缝，意恐迟迟归。谁言寸草心，报得三春晖。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游子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孟郊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母爱无所报，人生更何求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送母回乡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商隐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3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1042920" y="2428920"/>
            <a:ext cx="7234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搴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qiā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帷拜母河梁去，白发愁看泪眼枯。 惨惨柴门风雪夜，此时有子不如无。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别老母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黄景仁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业精于勤，荒于嬉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行成于思，毁于随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进学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韩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8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1537200" y="236844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秋节民谣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1251000" y="2835360"/>
            <a:ext cx="70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亮鞋，中秋节。吃月饼，供兔爷。穿新袜，换新鞋。跟奶奶， 拉姐姐，上趟前门逛趟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74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1"/>
          <p:cNvSpPr/>
          <p:nvPr/>
        </p:nvSpPr>
        <p:spPr>
          <a:xfrm>
            <a:off x="1017720" y="226836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悟作者从母亲那里受到的启蒙教育，同时体会作者对母亲的深深感激和怀念之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母亲是我的启蒙老师。她用月夜诗情为我打开了民间的文学宝库，她用智慧才华启迪了我想象的翅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923760" y="343548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本文韵味十足，充满诗的味道和节奏美。轻轻地，用心地读课文，一边读，一边想象，一边细细品味课文的意境。把握优美、深情 的基调，积累文中的优美语句，并将其转化 成自己的语言进行运用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15"/>
          <p:cNvGrpSpPr/>
          <p:nvPr/>
        </p:nvGrpSpPr>
        <p:grpSpPr>
          <a:xfrm>
            <a:off x="814320" y="1657440"/>
            <a:ext cx="7661520" cy="1316880"/>
            <a:chOff x="814320" y="1657440"/>
            <a:chExt cx="7661520" cy="1316880"/>
          </a:xfrm>
        </p:grpSpPr>
        <p:sp>
          <p:nvSpPr>
            <p:cNvPr id="182" name="圆角矩形 14"/>
            <p:cNvSpPr/>
            <p:nvPr/>
          </p:nvSpPr>
          <p:spPr>
            <a:xfrm>
              <a:off x="814320" y="2262600"/>
              <a:ext cx="766152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轻轻地、用心地读课文，再把你喜欢的语句多 读几遍。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3" name="组合 10"/>
            <p:cNvGrpSpPr/>
            <p:nvPr/>
          </p:nvGrpSpPr>
          <p:grpSpPr>
            <a:xfrm>
              <a:off x="904320" y="1657440"/>
              <a:ext cx="1594080" cy="678600"/>
              <a:chOff x="904320" y="1657440"/>
              <a:chExt cx="1594080" cy="678600"/>
            </a:xfrm>
          </p:grpSpPr>
          <p:sp>
            <p:nvSpPr>
              <p:cNvPr id="184" name="任意多边形 11"/>
              <p:cNvSpPr/>
              <p:nvPr/>
            </p:nvSpPr>
            <p:spPr>
              <a:xfrm>
                <a:off x="1321560" y="1749960"/>
                <a:ext cx="1176840" cy="4932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5" name="椭圆 12"/>
              <p:cNvGrpSpPr/>
              <p:nvPr/>
            </p:nvGrpSpPr>
            <p:grpSpPr>
              <a:xfrm>
                <a:off x="904320" y="1657440"/>
                <a:ext cx="700560" cy="678600"/>
                <a:chOff x="904320" y="1657440"/>
                <a:chExt cx="700560" cy="678600"/>
              </a:xfrm>
            </p:grpSpPr>
            <p:pic>
              <p:nvPicPr>
                <p:cNvPr id="186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4320" y="1657440"/>
                  <a:ext cx="700560" cy="67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>
                  <a:off x="1017000" y="1764720"/>
                  <a:ext cx="47484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2"/>
          <p:cNvSpPr/>
          <p:nvPr/>
        </p:nvSpPr>
        <p:spPr>
          <a:xfrm>
            <a:off x="936720" y="3586320"/>
            <a:ext cx="74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可以一边读，一边用手击打桌面，感 受童谣的“明快、流畅、含蓄、风趣”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5"/>
          <p:cNvGrpSpPr/>
          <p:nvPr/>
        </p:nvGrpSpPr>
        <p:grpSpPr>
          <a:xfrm>
            <a:off x="814320" y="1355760"/>
            <a:ext cx="7661520" cy="1535040"/>
            <a:chOff x="814320" y="1355760"/>
            <a:chExt cx="7661520" cy="1535040"/>
          </a:xfrm>
        </p:grpSpPr>
        <p:sp>
          <p:nvSpPr>
            <p:cNvPr id="190" name="圆角矩形 14"/>
            <p:cNvSpPr/>
            <p:nvPr/>
          </p:nvSpPr>
          <p:spPr>
            <a:xfrm>
              <a:off x="814320" y="2179080"/>
              <a:ext cx="766152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355680" indent="-355680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课文中有许多朗朗上口的童谣，有感情地打着 节拍读一读，感受童谣的“明快、流畅、含蓄、风趣”。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0"/>
            <p:cNvGrpSpPr/>
            <p:nvPr/>
          </p:nvGrpSpPr>
          <p:grpSpPr>
            <a:xfrm>
              <a:off x="904320" y="1355760"/>
              <a:ext cx="1594080" cy="678240"/>
              <a:chOff x="904320" y="1355760"/>
              <a:chExt cx="1594080" cy="678240"/>
            </a:xfrm>
          </p:grpSpPr>
          <p:sp>
            <p:nvSpPr>
              <p:cNvPr id="192" name="任意多边形 11"/>
              <p:cNvSpPr/>
              <p:nvPr/>
            </p:nvSpPr>
            <p:spPr>
              <a:xfrm>
                <a:off x="1321560" y="1450440"/>
                <a:ext cx="1176840" cy="4888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3" name="椭圆 12"/>
              <p:cNvGrpSpPr/>
              <p:nvPr/>
            </p:nvGrpSpPr>
            <p:grpSpPr>
              <a:xfrm>
                <a:off x="904320" y="1355760"/>
                <a:ext cx="700560" cy="678240"/>
                <a:chOff x="904320" y="1355760"/>
                <a:chExt cx="700560" cy="678240"/>
              </a:xfrm>
            </p:grpSpPr>
            <p:pic>
              <p:nvPicPr>
                <p:cNvPr id="194" name="椭圆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04320" y="1355760"/>
                  <a:ext cx="700560" cy="67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1017000" y="1464840"/>
                  <a:ext cx="474840" cy="46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13"/>
          <p:cNvGrpSpPr/>
          <p:nvPr/>
        </p:nvGrpSpPr>
        <p:grpSpPr>
          <a:xfrm>
            <a:off x="814320" y="1424160"/>
            <a:ext cx="7810560" cy="1817640"/>
            <a:chOff x="814320" y="1424160"/>
            <a:chExt cx="7810560" cy="1817640"/>
          </a:xfrm>
        </p:grpSpPr>
        <p:grpSp>
          <p:nvGrpSpPr>
            <p:cNvPr id="197" name="组合 6"/>
            <p:cNvGrpSpPr/>
            <p:nvPr/>
          </p:nvGrpSpPr>
          <p:grpSpPr>
            <a:xfrm>
              <a:off x="823680" y="1537200"/>
              <a:ext cx="7801200" cy="1704600"/>
              <a:chOff x="823680" y="1537200"/>
              <a:chExt cx="7801200" cy="1704600"/>
            </a:xfrm>
          </p:grpSpPr>
          <p:sp>
            <p:nvSpPr>
              <p:cNvPr id="198" name="圆角矩形 7"/>
              <p:cNvSpPr/>
              <p:nvPr/>
            </p:nvSpPr>
            <p:spPr>
              <a:xfrm>
                <a:off x="823680" y="1921680"/>
                <a:ext cx="7801200" cy="1320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文中说“小院立即飘满她那芳香的音韵”，“音韵” 明明是用来听的，怎么会“闻”到“芳香”呢？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任意多边形 10"/>
              <p:cNvSpPr/>
              <p:nvPr/>
            </p:nvSpPr>
            <p:spPr>
              <a:xfrm>
                <a:off x="1183320" y="1537200"/>
                <a:ext cx="2262600" cy="5054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0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424160"/>
              <a:ext cx="803520" cy="73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Box 2"/>
          <p:cNvSpPr/>
          <p:nvPr/>
        </p:nvSpPr>
        <p:spPr>
          <a:xfrm>
            <a:off x="950760" y="351792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运用了通感的修辞手法，借嗅觉表现听觉上的感受。作者听到音韵，感觉闻到了芳香，语言曼妙而含蓄，说明了母亲的歌声十分悦耳动听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3"/>
          <p:cNvGrpSpPr/>
          <p:nvPr/>
        </p:nvGrpSpPr>
        <p:grpSpPr>
          <a:xfrm>
            <a:off x="719280" y="1260360"/>
            <a:ext cx="7810200" cy="1856520"/>
            <a:chOff x="719280" y="1260360"/>
            <a:chExt cx="7810200" cy="1856520"/>
          </a:xfrm>
        </p:grpSpPr>
        <p:grpSp>
          <p:nvGrpSpPr>
            <p:cNvPr id="203" name="组合 6"/>
            <p:cNvGrpSpPr/>
            <p:nvPr/>
          </p:nvGrpSpPr>
          <p:grpSpPr>
            <a:xfrm>
              <a:off x="731160" y="1374840"/>
              <a:ext cx="7798320" cy="1742040"/>
              <a:chOff x="731160" y="1374840"/>
              <a:chExt cx="7798320" cy="1742040"/>
            </a:xfrm>
          </p:grpSpPr>
          <p:sp>
            <p:nvSpPr>
              <p:cNvPr id="204" name="圆角矩形 7"/>
              <p:cNvSpPr/>
              <p:nvPr/>
            </p:nvSpPr>
            <p:spPr>
              <a:xfrm>
                <a:off x="731160" y="2404440"/>
                <a:ext cx="7798320" cy="7124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“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母亲用歌谣把故乡的爱，伴着月光给了我， 让一颗混沌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dùn)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的童心豁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huò)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然开朗。” 仔细体会这句话的含义，再想一想这句话与文题有什么关系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任意多边形 10"/>
              <p:cNvSpPr/>
              <p:nvPr/>
            </p:nvSpPr>
            <p:spPr>
              <a:xfrm>
                <a:off x="1090800" y="1374840"/>
                <a:ext cx="2261880" cy="5065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6" name="Picture 2" descr=""/>
            <p:cNvPicPr/>
            <p:nvPr/>
          </p:nvPicPr>
          <p:blipFill>
            <a:blip r:embed="rId1"/>
            <a:stretch/>
          </p:blipFill>
          <p:spPr>
            <a:xfrm>
              <a:off x="719280" y="1260360"/>
              <a:ext cx="803160" cy="73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Box 2"/>
          <p:cNvSpPr/>
          <p:nvPr/>
        </p:nvSpPr>
        <p:spPr>
          <a:xfrm>
            <a:off x="936720" y="3927600"/>
            <a:ext cx="74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是说母亲的儿歌对“我”的启蒙作用。夏夜里，母亲在月下把爱给了“我”，使“我”的童心从“混沌”走向“豁 然开朗”。这句话有点题的作用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2"/>
          <p:cNvGrpSpPr/>
          <p:nvPr/>
        </p:nvGrpSpPr>
        <p:grpSpPr>
          <a:xfrm>
            <a:off x="814320" y="1258920"/>
            <a:ext cx="7661520" cy="3459600"/>
            <a:chOff x="814320" y="1258920"/>
            <a:chExt cx="7661520" cy="3459600"/>
          </a:xfrm>
        </p:grpSpPr>
        <p:grpSp>
          <p:nvGrpSpPr>
            <p:cNvPr id="209" name="组合 6"/>
            <p:cNvGrpSpPr/>
            <p:nvPr/>
          </p:nvGrpSpPr>
          <p:grpSpPr>
            <a:xfrm>
              <a:off x="814320" y="1346760"/>
              <a:ext cx="7661520" cy="3371760"/>
              <a:chOff x="814320" y="1346760"/>
              <a:chExt cx="7661520" cy="3371760"/>
            </a:xfrm>
          </p:grpSpPr>
          <p:sp>
            <p:nvSpPr>
              <p:cNvPr id="210" name="圆角矩形 7"/>
              <p:cNvSpPr/>
              <p:nvPr/>
            </p:nvSpPr>
            <p:spPr>
              <a:xfrm>
                <a:off x="814320" y="1992600"/>
                <a:ext cx="7661520" cy="2725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55680" indent="-355680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比较下列句子有什么不同，并体会加点词语包 含的意思。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夏夜是美妙的。        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童年的夏夜是美妙的。        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童年的夏夜永远是美妙的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任意多边形 9"/>
              <p:cNvSpPr/>
              <p:nvPr/>
            </p:nvSpPr>
            <p:spPr>
              <a:xfrm>
                <a:off x="1069920" y="1346760"/>
                <a:ext cx="2544840" cy="5072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2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258920"/>
              <a:ext cx="74952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矩形 1"/>
          <p:cNvSpPr/>
          <p:nvPr/>
        </p:nvSpPr>
        <p:spPr>
          <a:xfrm>
            <a:off x="2492640" y="31478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"/>
          <p:cNvSpPr/>
          <p:nvPr/>
        </p:nvSpPr>
        <p:spPr>
          <a:xfrm>
            <a:off x="1526040" y="377820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1"/>
          <p:cNvSpPr/>
          <p:nvPr/>
        </p:nvSpPr>
        <p:spPr>
          <a:xfrm>
            <a:off x="3108600" y="4365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9"/>
          <p:cNvSpPr/>
          <p:nvPr/>
        </p:nvSpPr>
        <p:spPr>
          <a:xfrm>
            <a:off x="843120" y="1339920"/>
            <a:ext cx="77277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加点的词语，是句子特别强调的。反 复读，一边读一边体会作者所要表达的意思。体会加点词的意思，可以查字典，再结合上下文理解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三个句子一句比一句生动、具体。 第一句强调“美妙”，说明了记忆中的夏夜是那么美好；第二句强调“童年”，说明童 年的夏夜是美妙的；第三句强调“永远”， 说明童年是人生最美妙的一段时光，那时的 美好的回忆会永留心间。“美妙”是美好、 奇妙的意思。“童年”是指儿童时期。“永远” 表示时间长久，没有终止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2"/>
          <p:cNvGrpSpPr/>
          <p:nvPr/>
        </p:nvGrpSpPr>
        <p:grpSpPr>
          <a:xfrm>
            <a:off x="773280" y="1258920"/>
            <a:ext cx="7661160" cy="3363480"/>
            <a:chOff x="773280" y="1258920"/>
            <a:chExt cx="7661160" cy="3363480"/>
          </a:xfrm>
        </p:grpSpPr>
        <p:grpSp>
          <p:nvGrpSpPr>
            <p:cNvPr id="218" name="组合 6"/>
            <p:cNvGrpSpPr/>
            <p:nvPr/>
          </p:nvGrpSpPr>
          <p:grpSpPr>
            <a:xfrm>
              <a:off x="773280" y="1346760"/>
              <a:ext cx="7661160" cy="3275640"/>
              <a:chOff x="773280" y="1346760"/>
              <a:chExt cx="7661160" cy="3275640"/>
            </a:xfrm>
          </p:grpSpPr>
          <p:sp>
            <p:nvSpPr>
              <p:cNvPr id="219" name="圆角矩形 7"/>
              <p:cNvSpPr/>
              <p:nvPr/>
            </p:nvSpPr>
            <p:spPr>
              <a:xfrm>
                <a:off x="773280" y="1896480"/>
                <a:ext cx="7661160" cy="2725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下面的句子，选择其中加点的词语说一 句话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那时，我们日子清苦，但精神生活是丰富的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黄河留给家乡的故道不长五谷，却长歌谣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母亲不识字，却是我的启蒙老师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任意多边形 9"/>
              <p:cNvSpPr/>
              <p:nvPr/>
            </p:nvSpPr>
            <p:spPr>
              <a:xfrm>
                <a:off x="1069920" y="1346760"/>
                <a:ext cx="2544840" cy="5072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258920"/>
              <a:ext cx="74952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矩形 2"/>
          <p:cNvSpPr/>
          <p:nvPr/>
        </p:nvSpPr>
        <p:spPr>
          <a:xfrm>
            <a:off x="4788000" y="281628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2"/>
          <p:cNvSpPr/>
          <p:nvPr/>
        </p:nvSpPr>
        <p:spPr>
          <a:xfrm>
            <a:off x="5991120" y="342576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3"/>
          <p:cNvSpPr/>
          <p:nvPr/>
        </p:nvSpPr>
        <p:spPr>
          <a:xfrm>
            <a:off x="3551040" y="395136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9"/>
          <p:cNvSpPr/>
          <p:nvPr/>
        </p:nvSpPr>
        <p:spPr>
          <a:xfrm>
            <a:off x="843120" y="1722600"/>
            <a:ext cx="772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三个句子的共同特点是都含有“但” 或“却”，都表达了转折的意思。写句子时 要注意，“但”“却”之前与之后的分句意 思不一致。如第三句“母亲不识字”与“是 我的启蒙老师”意思不同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他虽然年过七旬，精神却很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组合 6"/>
          <p:cNvGrpSpPr/>
          <p:nvPr/>
        </p:nvGrpSpPr>
        <p:grpSpPr>
          <a:xfrm>
            <a:off x="814320" y="1211400"/>
            <a:ext cx="7661520" cy="3605400"/>
            <a:chOff x="814320" y="1211400"/>
            <a:chExt cx="7661520" cy="3605400"/>
          </a:xfrm>
        </p:grpSpPr>
        <p:grpSp>
          <p:nvGrpSpPr>
            <p:cNvPr id="227" name="组合 2"/>
            <p:cNvGrpSpPr/>
            <p:nvPr/>
          </p:nvGrpSpPr>
          <p:grpSpPr>
            <a:xfrm>
              <a:off x="814320" y="1342080"/>
              <a:ext cx="7661520" cy="3474720"/>
              <a:chOff x="814320" y="1342080"/>
              <a:chExt cx="7661520" cy="3474720"/>
            </a:xfrm>
          </p:grpSpPr>
          <p:sp>
            <p:nvSpPr>
              <p:cNvPr id="228" name="圆角矩形 4"/>
              <p:cNvSpPr/>
              <p:nvPr/>
            </p:nvSpPr>
            <p:spPr>
              <a:xfrm>
                <a:off x="814320" y="2825280"/>
                <a:ext cx="7661520" cy="1991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抄写下面的句子，想象当时作者所看到的情景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暑热散去了，星星出齐了，月亮升起来了，柔 和的月色立即洒满了我们的篱笆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bā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）小院。她用甜甜的嗓音深情地为我吟唱，轻轻的，像三月的和风，小溪的流水。高深莫测的夜空竟是个神话的世界。此时明月已至中天，母亲沉浸在如水的月色里，像一尊玉石雕像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任意多边形 5"/>
              <p:cNvSpPr/>
              <p:nvPr/>
            </p:nvSpPr>
            <p:spPr>
              <a:xfrm>
                <a:off x="1214280" y="1342080"/>
                <a:ext cx="1436760" cy="5083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椭圆 7"/>
            <p:cNvGrpSpPr/>
            <p:nvPr/>
          </p:nvGrpSpPr>
          <p:grpSpPr>
            <a:xfrm>
              <a:off x="889920" y="1211400"/>
              <a:ext cx="755640" cy="717480"/>
              <a:chOff x="889920" y="1211400"/>
              <a:chExt cx="755640" cy="717480"/>
            </a:xfrm>
          </p:grpSpPr>
          <p:pic>
            <p:nvPicPr>
              <p:cNvPr id="231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211400"/>
                <a:ext cx="7556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1007640" y="1323360"/>
                <a:ext cx="51840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9"/>
          <p:cNvSpPr/>
          <p:nvPr/>
        </p:nvSpPr>
        <p:spPr>
          <a:xfrm>
            <a:off x="843120" y="1339920"/>
            <a:ext cx="772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四个句子内涵都很丰富，具有很大 的想象空间。一边抄写一边想象这四个句子 所描写的情景，再现文字描写的画面，感受 作者诗一般的语言，品味出文字的内涵。如 第四句：“此时明月已至中天，母亲沉浸在 如水的月色里，像一尊玉石雕像。”月色如水，身穿白布褂子的母亲沉浸其中，显得庄严肃穆，美丽圣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956120" y="29559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956120" y="40831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749600" y="29559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749600" y="40831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矩形 3"/>
          <p:cNvSpPr/>
          <p:nvPr/>
        </p:nvSpPr>
        <p:spPr>
          <a:xfrm>
            <a:off x="971640" y="189864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ó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ǎ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ǐ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í                                  l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ā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é                           yó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ǐ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3"/>
          <p:cNvSpPr/>
          <p:nvPr/>
        </p:nvSpPr>
        <p:spPr>
          <a:xfrm>
            <a:off x="1966680" y="2998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 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4"/>
          <p:cNvSpPr/>
          <p:nvPr/>
        </p:nvSpPr>
        <p:spPr>
          <a:xfrm>
            <a:off x="1946160" y="4125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启 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5"/>
          <p:cNvSpPr/>
          <p:nvPr/>
        </p:nvSpPr>
        <p:spPr>
          <a:xfrm>
            <a:off x="5002200" y="3005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宝 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6"/>
          <p:cNvSpPr/>
          <p:nvPr/>
        </p:nvSpPr>
        <p:spPr>
          <a:xfrm>
            <a:off x="5181120" y="4110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篱 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747800" y="507852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929120" y="5078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矩形 1"/>
          <p:cNvSpPr/>
          <p:nvPr/>
        </p:nvSpPr>
        <p:spPr>
          <a:xfrm>
            <a:off x="1939680" y="5153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歪 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2"/>
          <p:cNvSpPr/>
          <p:nvPr/>
        </p:nvSpPr>
        <p:spPr>
          <a:xfrm>
            <a:off x="5173200" y="5153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油 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3"/>
          <p:cNvSpPr/>
          <p:nvPr/>
        </p:nvSpPr>
        <p:spPr>
          <a:xfrm>
            <a:off x="971640" y="148428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选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轿　　桥　　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车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梁　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谣　　摇　　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晃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谜　　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语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惑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1"/>
          <p:cNvSpPr/>
          <p:nvPr/>
        </p:nvSpPr>
        <p:spPr>
          <a:xfrm>
            <a:off x="1972440" y="26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3493800" y="26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5356080" y="26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2342160" y="377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5068800" y="3816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9"/>
          <p:cNvSpPr/>
          <p:nvPr/>
        </p:nvSpPr>
        <p:spPr>
          <a:xfrm>
            <a:off x="3566880" y="3813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0"/>
          <p:cNvSpPr/>
          <p:nvPr/>
        </p:nvSpPr>
        <p:spPr>
          <a:xfrm>
            <a:off x="1982520" y="489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1"/>
          <p:cNvSpPr/>
          <p:nvPr/>
        </p:nvSpPr>
        <p:spPr>
          <a:xfrm>
            <a:off x="3555720" y="489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2"/>
          <p:cNvSpPr/>
          <p:nvPr/>
        </p:nvSpPr>
        <p:spPr>
          <a:xfrm>
            <a:off x="5078160" y="489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876480"/>
              <a:ext cx="3207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在夏夜的月光下，母亲为“我”做了哪些事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4108680"/>
              <a:ext cx="34560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母亲做的事对“我”有什么影响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334120"/>
              <a:ext cx="3468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本文表达了作者什么样的思想感情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132520"/>
              <a:ext cx="3207600" cy="1117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文中多次写到“月光”，它在文中起什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作用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34320" y="209808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为什么要用“月 光启蒙”做课文题目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417200" y="13356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启蒙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3"/>
          <p:cNvSpPr/>
          <p:nvPr/>
        </p:nvSpPr>
        <p:spPr>
          <a:xfrm>
            <a:off x="900000" y="171936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写出句子中加点字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歪着头想了一会儿，硬是解不开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冻了一晚上，毛巾变得硬邦邦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不让他去，他硬要去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4608000" y="24638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4608000" y="30686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3384000" y="3645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5"/>
          <p:cNvSpPr/>
          <p:nvPr/>
        </p:nvSpPr>
        <p:spPr>
          <a:xfrm>
            <a:off x="6771600" y="24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无论如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8"/>
          <p:cNvSpPr/>
          <p:nvPr/>
        </p:nvSpPr>
        <p:spPr>
          <a:xfrm>
            <a:off x="6624000" y="29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坚固结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4773960" y="34290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坚决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3"/>
          <p:cNvSpPr/>
          <p:nvPr/>
        </p:nvSpPr>
        <p:spPr>
          <a:xfrm>
            <a:off x="900000" y="17193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填字成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豁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奔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263196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4"/>
          <p:cNvSpPr/>
          <p:nvPr/>
        </p:nvSpPr>
        <p:spPr>
          <a:xfrm>
            <a:off x="33890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05488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2778120" y="293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12"/>
          <p:cNvSpPr/>
          <p:nvPr/>
        </p:nvSpPr>
        <p:spPr>
          <a:xfrm>
            <a:off x="2665440" y="347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13"/>
          <p:cNvSpPr/>
          <p:nvPr/>
        </p:nvSpPr>
        <p:spPr>
          <a:xfrm>
            <a:off x="3411360" y="347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4"/>
          <p:cNvSpPr/>
          <p:nvPr/>
        </p:nvSpPr>
        <p:spPr>
          <a:xfrm>
            <a:off x="2630520" y="400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15"/>
          <p:cNvSpPr/>
          <p:nvPr/>
        </p:nvSpPr>
        <p:spPr>
          <a:xfrm>
            <a:off x="3394080" y="404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3"/>
          <p:cNvSpPr/>
          <p:nvPr/>
        </p:nvSpPr>
        <p:spPr>
          <a:xfrm>
            <a:off x="539640" y="12682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句子练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仿写，用上带点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不识字，却是我的启蒙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变句式：高深莫测的夜空竟是个神话的世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问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叹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"/>
          <p:cNvSpPr/>
          <p:nvPr/>
        </p:nvSpPr>
        <p:spPr>
          <a:xfrm>
            <a:off x="3106440" y="2602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5"/>
          <p:cNvSpPr/>
          <p:nvPr/>
        </p:nvSpPr>
        <p:spPr>
          <a:xfrm>
            <a:off x="1042920" y="2908440"/>
            <a:ext cx="70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0f4"/>
                </a:solidFill>
                <a:latin typeface="Times New Roman"/>
                <a:ea typeface="Times New Roman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大雪纷飞，有些冷，却带来了难得的堆雪人的快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7"/>
          <p:cNvSpPr/>
          <p:nvPr/>
        </p:nvSpPr>
        <p:spPr>
          <a:xfrm>
            <a:off x="2338560" y="4554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高深莫测的夜空难道不是个神话的世界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8"/>
          <p:cNvSpPr/>
          <p:nvPr/>
        </p:nvSpPr>
        <p:spPr>
          <a:xfrm>
            <a:off x="2308320" y="521640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高深莫测的夜空真是个神话的世界啊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是孩子眼里最美的时辰。母亲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忙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完了一天的活计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洗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完澡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换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了一件白布褂子，在院中的干草堆旁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我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唱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动听的歌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885960" y="36910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用一连串的动作体现了母亲的朴实与勤劳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云形 4"/>
          <p:cNvGrpSpPr/>
          <p:nvPr/>
        </p:nvGrpSpPr>
        <p:grpSpPr>
          <a:xfrm>
            <a:off x="4700520" y="2736720"/>
            <a:ext cx="2455920" cy="993960"/>
            <a:chOff x="4700520" y="2736720"/>
            <a:chExt cx="2455920" cy="993960"/>
          </a:xfrm>
        </p:grpSpPr>
        <p:pic>
          <p:nvPicPr>
            <p:cNvPr id="87" name="云形 4" descr=""/>
            <p:cNvPicPr/>
            <p:nvPr/>
          </p:nvPicPr>
          <p:blipFill>
            <a:blip r:embed="rId1"/>
            <a:stretch/>
          </p:blipFill>
          <p:spPr>
            <a:xfrm>
              <a:off x="4700520" y="2736720"/>
              <a:ext cx="2455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393880" y="2967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动作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885960" y="1049400"/>
            <a:ext cx="77263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也试着用一系列动作写写妈妈做饭时忙碌的情景吧。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24" descr="花盆.png"/>
          <p:cNvPicPr/>
          <p:nvPr/>
        </p:nvPicPr>
        <p:blipFill>
          <a:blip r:embed="rId1"/>
          <a:stretch/>
        </p:blipFill>
        <p:spPr>
          <a:xfrm>
            <a:off x="642960" y="1203480"/>
            <a:ext cx="317520" cy="36828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1216080" y="2030400"/>
            <a:ext cx="7230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轻轻走进厨房，看见妈妈正准备做番茄炒蛋。只见妈妈把鸡蛋打破，把蛋清和蛋黄倒入一个碗中，用筷子不停地搅拌了一会儿，蛋液变成了糊状。妈妈又把番茄切成块儿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……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94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写出更多这样的情景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院立即飘满她那芳香的音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6"/>
          <p:cNvGrpSpPr/>
          <p:nvPr/>
        </p:nvGrpSpPr>
        <p:grpSpPr>
          <a:xfrm>
            <a:off x="873000" y="2313000"/>
            <a:ext cx="7683480" cy="1428840"/>
            <a:chOff x="873000" y="2313000"/>
            <a:chExt cx="7683480" cy="1428840"/>
          </a:xfrm>
        </p:grpSpPr>
        <p:sp>
          <p:nvSpPr>
            <p:cNvPr id="98" name="直接连接符 7"/>
            <p:cNvSpPr/>
            <p:nvPr/>
          </p:nvSpPr>
          <p:spPr>
            <a:xfrm>
              <a:off x="873000" y="37418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任意多边形 8"/>
            <p:cNvSpPr/>
            <p:nvPr/>
          </p:nvSpPr>
          <p:spPr>
            <a:xfrm>
              <a:off x="873000" y="2313000"/>
              <a:ext cx="7683480" cy="1428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理解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: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芳香”本是需要闻才能感受到的，这里用“芳香的音韵”来写母亲的吟唱好在哪里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4"/>
          <p:cNvSpPr/>
          <p:nvPr/>
        </p:nvSpPr>
        <p:spPr>
          <a:xfrm>
            <a:off x="892080" y="376884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那深情的声音犹如花的“芳香”，使人迷恋。 这里用“芳香”来形容音韵，采用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通感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， 借嗅觉表现听觉上的感受，使人从中品味出母亲声音的甜美，歌声的和谐，歌谣所散发出的美好情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云形 9"/>
          <p:cNvGrpSpPr/>
          <p:nvPr/>
        </p:nvGrpSpPr>
        <p:grpSpPr>
          <a:xfrm>
            <a:off x="6004080" y="1517760"/>
            <a:ext cx="1512720" cy="987480"/>
            <a:chOff x="6004080" y="1517760"/>
            <a:chExt cx="1512720" cy="987480"/>
          </a:xfrm>
        </p:grpSpPr>
        <p:pic>
          <p:nvPicPr>
            <p:cNvPr id="102" name="云形 9" descr=""/>
            <p:cNvPicPr/>
            <p:nvPr/>
          </p:nvPicPr>
          <p:blipFill>
            <a:blip r:embed="rId1"/>
            <a:stretch/>
          </p:blipFill>
          <p:spPr>
            <a:xfrm>
              <a:off x="6004080" y="1517760"/>
              <a:ext cx="15127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443280" y="1743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通感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903240" y="1846440"/>
            <a:ext cx="734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通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感就是把不同感官的感觉沟通起来，借联想引起感觉转移，“以感觉写感觉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怎样判断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适用于甲类感官的词语巧妙地运用到乙类感官上，使各种感官互相沟通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如何运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见本课“课后练习单”第二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735120" y="2128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红孩，上南山，割荆草，编箔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篮，筛大米，做干饭。小狗吃，小猫看，急得老鼠啃锅沿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892080" y="364644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首童谣幽默风趣，暗指勤劳的人吃干饭，懒惰的人啃锅沿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49:05Z</dcterms:modified>
  <cp:revision>4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